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530-1BD9-44E7-A0AB-3FC2A962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3CB-8C46-46D9-B2D9-573F9D46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8E5-C212-4741-BC97-44FF8C98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B2B-5E1B-4E2B-AFFD-C4717A4E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B37-E802-43AD-AD20-85429283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8AC-CF93-4854-9BD6-D989430D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316-C5C2-4DA9-A962-5E33BC66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DEB-2CCA-463F-B9F4-2122A383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648-5344-4246-BE10-1ED256B2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566-5CD3-424B-8AFF-0E506FD0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AFC-364B-4417-AF5B-5676E766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BF5-CB87-4685-A5EF-FDB37232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064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685800"/>
            <a:ext cx="9759600" cy="1052640"/>
            <a:chOff x="0" y="685800"/>
            <a:chExt cx="9759600" cy="1052640"/>
          </a:xfrm>
        </p:grpSpPr>
        <p:grpSp>
          <p:nvGrpSpPr>
            <p:cNvPr id="38" name=""/>
            <p:cNvGrpSpPr/>
            <p:nvPr/>
          </p:nvGrpSpPr>
          <p:grpSpPr>
            <a:xfrm>
              <a:off x="314640" y="793800"/>
              <a:ext cx="770040" cy="474840"/>
              <a:chOff x="314640" y="793800"/>
              <a:chExt cx="770040" cy="474840"/>
            </a:xfrm>
          </p:grpSpPr>
          <p:sp>
            <p:nvSpPr>
              <p:cNvPr id="39" name=""/>
              <p:cNvSpPr/>
              <p:nvPr/>
            </p:nvSpPr>
            <p:spPr>
              <a:xfrm>
                <a:off x="314640" y="793800"/>
                <a:ext cx="4737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29360" y="793800"/>
                <a:ext cx="355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448560" y="1216080"/>
              <a:ext cx="798840" cy="474840"/>
              <a:chOff x="448560" y="1216080"/>
              <a:chExt cx="798840" cy="474840"/>
            </a:xfrm>
          </p:grpSpPr>
          <p:sp>
            <p:nvSpPr>
              <p:cNvPr id="42" name=""/>
              <p:cNvSpPr/>
              <p:nvPr/>
            </p:nvSpPr>
            <p:spPr>
              <a:xfrm>
                <a:off x="448560" y="1216080"/>
                <a:ext cx="456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7800" y="1216080"/>
                <a:ext cx="3996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0" y="1143000"/>
              <a:ext cx="6069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87960" y="685800"/>
              <a:ext cx="3420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42360" y="1508040"/>
              <a:ext cx="941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2800" y="75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10728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714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3FA6-A522-4CC0-A898-903936E6D9A4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87520" y="1039680"/>
            <a:ext cx="3506400" cy="1344240"/>
            <a:chOff x="587520" y="1039680"/>
            <a:chExt cx="3506400" cy="1344240"/>
          </a:xfrm>
        </p:grpSpPr>
        <p:grpSp>
          <p:nvGrpSpPr>
            <p:cNvPr id="89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90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587520" y="1463400"/>
              <a:ext cx="3506400" cy="69480"/>
              <a:chOff x="587520" y="1463400"/>
              <a:chExt cx="3506400" cy="69480"/>
            </a:xfrm>
          </p:grpSpPr>
          <p:sp>
            <p:nvSpPr>
              <p:cNvPr id="97" name=""/>
              <p:cNvSpPr/>
              <p:nvPr/>
            </p:nvSpPr>
            <p:spPr>
              <a:xfrm>
                <a:off x="587520" y="1464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27600" y="1463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6768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077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152520" y="1463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893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87520" y="1888920"/>
              <a:ext cx="3506400" cy="69480"/>
              <a:chOff x="587520" y="1888920"/>
              <a:chExt cx="3506400" cy="6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587520" y="18900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27600" y="188892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6768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77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52520" y="188892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893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87520" y="2312640"/>
              <a:ext cx="3506400" cy="71280"/>
              <a:chOff x="587520" y="2312640"/>
              <a:chExt cx="3506400" cy="71280"/>
            </a:xfrm>
          </p:grpSpPr>
          <p:sp>
            <p:nvSpPr>
              <p:cNvPr id="111" name=""/>
              <p:cNvSpPr/>
              <p:nvPr/>
            </p:nvSpPr>
            <p:spPr>
              <a:xfrm>
                <a:off x="58752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2760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67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0776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5252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936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87520" y="4486320"/>
            <a:ext cx="3506400" cy="1344600"/>
            <a:chOff x="587520" y="4486320"/>
            <a:chExt cx="3506400" cy="1344600"/>
          </a:xfrm>
        </p:grpSpPr>
        <p:grpSp>
          <p:nvGrpSpPr>
            <p:cNvPr id="121" name=""/>
            <p:cNvGrpSpPr/>
            <p:nvPr/>
          </p:nvGrpSpPr>
          <p:grpSpPr>
            <a:xfrm>
              <a:off x="587520" y="4486320"/>
              <a:ext cx="3506400" cy="71280"/>
              <a:chOff x="587520" y="4486320"/>
              <a:chExt cx="3506400" cy="71280"/>
            </a:xfrm>
          </p:grpSpPr>
          <p:sp>
            <p:nvSpPr>
              <p:cNvPr id="122" name=""/>
              <p:cNvSpPr/>
              <p:nvPr/>
            </p:nvSpPr>
            <p:spPr>
              <a:xfrm>
                <a:off x="587520" y="44877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27600" y="448632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6768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077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52520" y="448632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893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587520" y="4910400"/>
              <a:ext cx="3506400" cy="69480"/>
              <a:chOff x="587520" y="4910400"/>
              <a:chExt cx="3506400" cy="69480"/>
            </a:xfrm>
          </p:grpSpPr>
          <p:sp>
            <p:nvSpPr>
              <p:cNvPr id="129" name=""/>
              <p:cNvSpPr/>
              <p:nvPr/>
            </p:nvSpPr>
            <p:spPr>
              <a:xfrm>
                <a:off x="587520" y="4911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27600" y="4910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6768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77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52520" y="4910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7893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136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87520" y="5759640"/>
              <a:ext cx="3506400" cy="71280"/>
              <a:chOff x="587520" y="5759640"/>
              <a:chExt cx="3506400" cy="71280"/>
            </a:xfrm>
          </p:grpSpPr>
          <p:sp>
            <p:nvSpPr>
              <p:cNvPr id="143" name=""/>
              <p:cNvSpPr/>
              <p:nvPr/>
            </p:nvSpPr>
            <p:spPr>
              <a:xfrm>
                <a:off x="587520" y="5761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27600" y="5759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6768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0776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52520" y="5759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8936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635800" y="1039680"/>
            <a:ext cx="3506400" cy="1344240"/>
            <a:chOff x="5635800" y="1039680"/>
            <a:chExt cx="3506400" cy="1344240"/>
          </a:xfrm>
        </p:grpSpPr>
        <p:grpSp>
          <p:nvGrpSpPr>
            <p:cNvPr id="151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152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635800" y="1463400"/>
              <a:ext cx="3506400" cy="69480"/>
              <a:chOff x="5635800" y="1463400"/>
              <a:chExt cx="3506400" cy="69480"/>
            </a:xfrm>
          </p:grpSpPr>
          <p:sp>
            <p:nvSpPr>
              <p:cNvPr id="159" name=""/>
              <p:cNvSpPr/>
              <p:nvPr/>
            </p:nvSpPr>
            <p:spPr>
              <a:xfrm>
                <a:off x="5635800" y="1464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75880" y="1463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159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5604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0800" y="1463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764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35800" y="1888920"/>
              <a:ext cx="3506400" cy="69480"/>
              <a:chOff x="5635800" y="1888920"/>
              <a:chExt cx="3506400" cy="694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35800" y="18900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75880" y="188892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9159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5604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00800" y="188892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83764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635800" y="2312640"/>
              <a:ext cx="3506400" cy="71280"/>
              <a:chOff x="5635800" y="2312640"/>
              <a:chExt cx="3506400" cy="71280"/>
            </a:xfrm>
          </p:grpSpPr>
          <p:sp>
            <p:nvSpPr>
              <p:cNvPr id="173" name=""/>
              <p:cNvSpPr/>
              <p:nvPr/>
            </p:nvSpPr>
            <p:spPr>
              <a:xfrm>
                <a:off x="563580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7588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1596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55604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0080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83764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635800" y="4486320"/>
            <a:ext cx="3506400" cy="1344600"/>
            <a:chOff x="5635800" y="4486320"/>
            <a:chExt cx="3506400" cy="1344600"/>
          </a:xfrm>
        </p:grpSpPr>
        <p:grpSp>
          <p:nvGrpSpPr>
            <p:cNvPr id="181" name=""/>
            <p:cNvGrpSpPr/>
            <p:nvPr/>
          </p:nvGrpSpPr>
          <p:grpSpPr>
            <a:xfrm>
              <a:off x="5635800" y="4486320"/>
              <a:ext cx="3506400" cy="71280"/>
              <a:chOff x="5635800" y="4486320"/>
              <a:chExt cx="3506400" cy="712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35800" y="44877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75880" y="448632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9159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55604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200800" y="448632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764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635800" y="4910400"/>
              <a:ext cx="3506400" cy="69480"/>
              <a:chOff x="5635800" y="4910400"/>
              <a:chExt cx="3506400" cy="69480"/>
            </a:xfrm>
          </p:grpSpPr>
          <p:sp>
            <p:nvSpPr>
              <p:cNvPr id="189" name=""/>
              <p:cNvSpPr/>
              <p:nvPr/>
            </p:nvSpPr>
            <p:spPr>
              <a:xfrm>
                <a:off x="5635800" y="4911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275880" y="4910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159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5604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200800" y="4910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3764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196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5635800" y="5759640"/>
              <a:ext cx="3506400" cy="71280"/>
              <a:chOff x="5635800" y="5759640"/>
              <a:chExt cx="3506400" cy="71280"/>
            </a:xfrm>
          </p:grpSpPr>
          <p:sp>
            <p:nvSpPr>
              <p:cNvPr id="203" name=""/>
              <p:cNvSpPr/>
              <p:nvPr/>
            </p:nvSpPr>
            <p:spPr>
              <a:xfrm>
                <a:off x="5635800" y="5761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75880" y="5759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1596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5604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00800" y="5759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764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09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1308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1313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1320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1327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1334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0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1343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7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348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362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1369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5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1377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1382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1389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1396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1403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9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5483160" y="4243320"/>
            <a:ext cx="3846600" cy="1415880"/>
            <a:chOff x="5483160" y="4243320"/>
            <a:chExt cx="3846600" cy="1415880"/>
          </a:xfrm>
        </p:grpSpPr>
        <p:sp>
          <p:nvSpPr>
            <p:cNvPr id="1411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416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423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6" name=""/>
          <p:cNvGrpSpPr/>
          <p:nvPr/>
        </p:nvGrpSpPr>
        <p:grpSpPr>
          <a:xfrm>
            <a:off x="5635800" y="5759280"/>
            <a:ext cx="3506400" cy="71280"/>
            <a:chOff x="5635800" y="5759280"/>
            <a:chExt cx="3506400" cy="71280"/>
          </a:xfrm>
        </p:grpSpPr>
        <p:sp>
          <p:nvSpPr>
            <p:cNvPr id="1437" name=""/>
            <p:cNvSpPr/>
            <p:nvPr/>
          </p:nvSpPr>
          <p:spPr>
            <a:xfrm>
              <a:off x="5635800" y="57607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275880" y="575928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915960" y="57592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556040" y="57592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200800" y="575928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837640" y="57592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4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1447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1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1452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1459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1466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1473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9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1482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487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494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501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1508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4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1516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0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1521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1528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1535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1542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8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1550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555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562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8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569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1576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2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3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22280" y="79704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22280" y="122076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22280" y="164628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15800" y="207000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587520" y="1039680"/>
            <a:ext cx="3506400" cy="71280"/>
            <a:chOff x="587520" y="1039680"/>
            <a:chExt cx="3506400" cy="71280"/>
          </a:xfrm>
        </p:grpSpPr>
        <p:sp>
          <p:nvSpPr>
            <p:cNvPr id="1590" name=""/>
            <p:cNvSpPr/>
            <p:nvPr/>
          </p:nvSpPr>
          <p:spPr>
            <a:xfrm>
              <a:off x="587520" y="10411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227600" y="103968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86768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50776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152520" y="103968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78936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587520" y="1463760"/>
            <a:ext cx="3506400" cy="69480"/>
            <a:chOff x="587520" y="1463760"/>
            <a:chExt cx="3506400" cy="69480"/>
          </a:xfrm>
        </p:grpSpPr>
        <p:sp>
          <p:nvSpPr>
            <p:cNvPr id="1597" name=""/>
            <p:cNvSpPr/>
            <p:nvPr/>
          </p:nvSpPr>
          <p:spPr>
            <a:xfrm>
              <a:off x="587520" y="14648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227600" y="146376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86768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50776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152520" y="146376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78936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587520" y="1889280"/>
            <a:ext cx="3506400" cy="69480"/>
            <a:chOff x="587520" y="1889280"/>
            <a:chExt cx="3506400" cy="69480"/>
          </a:xfrm>
        </p:grpSpPr>
        <p:sp>
          <p:nvSpPr>
            <p:cNvPr id="1604" name=""/>
            <p:cNvSpPr/>
            <p:nvPr/>
          </p:nvSpPr>
          <p:spPr>
            <a:xfrm>
              <a:off x="587520" y="18903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227600" y="188928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86768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50776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152520" y="188928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78936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587520" y="2313000"/>
            <a:ext cx="3506400" cy="71280"/>
            <a:chOff x="587520" y="2313000"/>
            <a:chExt cx="3506400" cy="71280"/>
          </a:xfrm>
        </p:grpSpPr>
        <p:sp>
          <p:nvSpPr>
            <p:cNvPr id="1611" name=""/>
            <p:cNvSpPr/>
            <p:nvPr/>
          </p:nvSpPr>
          <p:spPr>
            <a:xfrm>
              <a:off x="587520" y="231444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227600" y="231300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867680" y="231300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07760" y="231300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152520" y="231300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789360" y="231300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7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1620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4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625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632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639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1646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2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489640" y="79704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489640" y="122076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489640" y="164628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483160" y="2070000"/>
            <a:ext cx="3840120" cy="14292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5635800" y="1039680"/>
            <a:ext cx="3506400" cy="71280"/>
            <a:chOff x="5635800" y="1039680"/>
            <a:chExt cx="3506400" cy="71280"/>
          </a:xfrm>
        </p:grpSpPr>
        <p:sp>
          <p:nvSpPr>
            <p:cNvPr id="1658" name=""/>
            <p:cNvSpPr/>
            <p:nvPr/>
          </p:nvSpPr>
          <p:spPr>
            <a:xfrm>
              <a:off x="5635800" y="10411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275880" y="103968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91596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5604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200800" y="103968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83764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5635800" y="1463760"/>
            <a:ext cx="3506400" cy="69480"/>
            <a:chOff x="5635800" y="1463760"/>
            <a:chExt cx="3506400" cy="69480"/>
          </a:xfrm>
        </p:grpSpPr>
        <p:sp>
          <p:nvSpPr>
            <p:cNvPr id="1665" name=""/>
            <p:cNvSpPr/>
            <p:nvPr/>
          </p:nvSpPr>
          <p:spPr>
            <a:xfrm>
              <a:off x="5635800" y="14648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275880" y="146376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91596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5604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200800" y="146376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83764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5635800" y="1889280"/>
            <a:ext cx="3506400" cy="69480"/>
            <a:chOff x="5635800" y="1889280"/>
            <a:chExt cx="3506400" cy="69480"/>
          </a:xfrm>
        </p:grpSpPr>
        <p:sp>
          <p:nvSpPr>
            <p:cNvPr id="1672" name=""/>
            <p:cNvSpPr/>
            <p:nvPr/>
          </p:nvSpPr>
          <p:spPr>
            <a:xfrm>
              <a:off x="5635800" y="18903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275880" y="188928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91596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55604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200800" y="188928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83764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5635800" y="2313000"/>
            <a:ext cx="3506400" cy="71280"/>
            <a:chOff x="5635800" y="2313000"/>
            <a:chExt cx="3506400" cy="71280"/>
          </a:xfrm>
        </p:grpSpPr>
        <p:sp>
          <p:nvSpPr>
            <p:cNvPr id="1679" name=""/>
            <p:cNvSpPr/>
            <p:nvPr/>
          </p:nvSpPr>
          <p:spPr>
            <a:xfrm>
              <a:off x="5635800" y="231444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275880" y="231300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915960" y="231300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56040" y="231300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200800" y="231300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837640" y="231300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1687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692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699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706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1713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9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212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217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224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231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238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247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252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259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266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273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281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286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293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300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307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315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320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327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334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341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351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356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363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370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377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386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391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398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405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412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420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425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432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439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446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2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454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459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466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473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480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87520" y="1039680"/>
            <a:ext cx="3506400" cy="1344240"/>
            <a:chOff x="587520" y="1039680"/>
            <a:chExt cx="3506400" cy="1344240"/>
          </a:xfrm>
        </p:grpSpPr>
        <p:grpSp>
          <p:nvGrpSpPr>
            <p:cNvPr id="490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491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87520" y="1463400"/>
              <a:ext cx="3506400" cy="69480"/>
              <a:chOff x="587520" y="1463400"/>
              <a:chExt cx="3506400" cy="69480"/>
            </a:xfrm>
          </p:grpSpPr>
          <p:sp>
            <p:nvSpPr>
              <p:cNvPr id="498" name=""/>
              <p:cNvSpPr/>
              <p:nvPr/>
            </p:nvSpPr>
            <p:spPr>
              <a:xfrm>
                <a:off x="587520" y="1464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227600" y="1463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86768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077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52520" y="1463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7893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87520" y="1888920"/>
              <a:ext cx="3506400" cy="69480"/>
              <a:chOff x="587520" y="1888920"/>
              <a:chExt cx="3506400" cy="69480"/>
            </a:xfrm>
          </p:grpSpPr>
          <p:sp>
            <p:nvSpPr>
              <p:cNvPr id="505" name=""/>
              <p:cNvSpPr/>
              <p:nvPr/>
            </p:nvSpPr>
            <p:spPr>
              <a:xfrm>
                <a:off x="587520" y="18900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227600" y="188892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86768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5077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52520" y="188892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893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587520" y="2312640"/>
              <a:ext cx="3506400" cy="71280"/>
              <a:chOff x="587520" y="2312640"/>
              <a:chExt cx="3506400" cy="71280"/>
            </a:xfrm>
          </p:grpSpPr>
          <p:sp>
            <p:nvSpPr>
              <p:cNvPr id="512" name=""/>
              <p:cNvSpPr/>
              <p:nvPr/>
            </p:nvSpPr>
            <p:spPr>
              <a:xfrm>
                <a:off x="58752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22760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67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50776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5252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78936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7520" y="4486320"/>
            <a:ext cx="3506400" cy="1344600"/>
            <a:chOff x="587520" y="4486320"/>
            <a:chExt cx="3506400" cy="1344600"/>
          </a:xfrm>
        </p:grpSpPr>
        <p:grpSp>
          <p:nvGrpSpPr>
            <p:cNvPr id="521" name=""/>
            <p:cNvGrpSpPr/>
            <p:nvPr/>
          </p:nvGrpSpPr>
          <p:grpSpPr>
            <a:xfrm>
              <a:off x="587520" y="4486320"/>
              <a:ext cx="3506400" cy="71280"/>
              <a:chOff x="587520" y="4486320"/>
              <a:chExt cx="3506400" cy="71280"/>
            </a:xfrm>
          </p:grpSpPr>
          <p:sp>
            <p:nvSpPr>
              <p:cNvPr id="522" name=""/>
              <p:cNvSpPr/>
              <p:nvPr/>
            </p:nvSpPr>
            <p:spPr>
              <a:xfrm>
                <a:off x="587520" y="44877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227600" y="448632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6768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5077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52520" y="448632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7893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87520" y="4910400"/>
              <a:ext cx="3506400" cy="69480"/>
              <a:chOff x="587520" y="4910400"/>
              <a:chExt cx="3506400" cy="69480"/>
            </a:xfrm>
          </p:grpSpPr>
          <p:sp>
            <p:nvSpPr>
              <p:cNvPr id="529" name=""/>
              <p:cNvSpPr/>
              <p:nvPr/>
            </p:nvSpPr>
            <p:spPr>
              <a:xfrm>
                <a:off x="587520" y="4911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227600" y="4910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86768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5077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52520" y="4910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7893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536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587520" y="5759640"/>
              <a:ext cx="3506400" cy="71280"/>
              <a:chOff x="587520" y="5759640"/>
              <a:chExt cx="3506400" cy="71280"/>
            </a:xfrm>
          </p:grpSpPr>
          <p:sp>
            <p:nvSpPr>
              <p:cNvPr id="543" name=""/>
              <p:cNvSpPr/>
              <p:nvPr/>
            </p:nvSpPr>
            <p:spPr>
              <a:xfrm>
                <a:off x="587520" y="5761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27600" y="5759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6768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0776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52520" y="5759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78936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5635800" y="1039680"/>
            <a:ext cx="3506400" cy="1344240"/>
            <a:chOff x="5635800" y="1039680"/>
            <a:chExt cx="3506400" cy="1344240"/>
          </a:xfrm>
        </p:grpSpPr>
        <p:grpSp>
          <p:nvGrpSpPr>
            <p:cNvPr id="551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552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635800" y="1463400"/>
              <a:ext cx="3506400" cy="69480"/>
              <a:chOff x="5635800" y="1463400"/>
              <a:chExt cx="3506400" cy="69480"/>
            </a:xfrm>
          </p:grpSpPr>
          <p:sp>
            <p:nvSpPr>
              <p:cNvPr id="559" name=""/>
              <p:cNvSpPr/>
              <p:nvPr/>
            </p:nvSpPr>
            <p:spPr>
              <a:xfrm>
                <a:off x="5635800" y="1464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75880" y="1463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9159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5604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00800" y="1463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83764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5635800" y="1888920"/>
              <a:ext cx="3506400" cy="69480"/>
              <a:chOff x="5635800" y="1888920"/>
              <a:chExt cx="3506400" cy="69480"/>
            </a:xfrm>
          </p:grpSpPr>
          <p:sp>
            <p:nvSpPr>
              <p:cNvPr id="566" name=""/>
              <p:cNvSpPr/>
              <p:nvPr/>
            </p:nvSpPr>
            <p:spPr>
              <a:xfrm>
                <a:off x="5635800" y="18900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75880" y="188892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9159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5604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200800" y="188892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83764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5635800" y="2312640"/>
              <a:ext cx="3506400" cy="71280"/>
              <a:chOff x="5635800" y="2312640"/>
              <a:chExt cx="3506400" cy="71280"/>
            </a:xfrm>
          </p:grpSpPr>
          <p:sp>
            <p:nvSpPr>
              <p:cNvPr id="573" name=""/>
              <p:cNvSpPr/>
              <p:nvPr/>
            </p:nvSpPr>
            <p:spPr>
              <a:xfrm>
                <a:off x="563580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27588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91596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55604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20080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83764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635800" y="4486320"/>
            <a:ext cx="3506400" cy="1344600"/>
            <a:chOff x="5635800" y="4486320"/>
            <a:chExt cx="3506400" cy="1344600"/>
          </a:xfrm>
        </p:grpSpPr>
        <p:grpSp>
          <p:nvGrpSpPr>
            <p:cNvPr id="581" name=""/>
            <p:cNvGrpSpPr/>
            <p:nvPr/>
          </p:nvGrpSpPr>
          <p:grpSpPr>
            <a:xfrm>
              <a:off x="5635800" y="4486320"/>
              <a:ext cx="3506400" cy="71280"/>
              <a:chOff x="5635800" y="4486320"/>
              <a:chExt cx="3506400" cy="71280"/>
            </a:xfrm>
          </p:grpSpPr>
          <p:sp>
            <p:nvSpPr>
              <p:cNvPr id="582" name=""/>
              <p:cNvSpPr/>
              <p:nvPr/>
            </p:nvSpPr>
            <p:spPr>
              <a:xfrm>
                <a:off x="5635800" y="44877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75880" y="448632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9159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55604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200800" y="448632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83764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5635800" y="4910400"/>
              <a:ext cx="3506400" cy="69480"/>
              <a:chOff x="5635800" y="4910400"/>
              <a:chExt cx="3506400" cy="69480"/>
            </a:xfrm>
          </p:grpSpPr>
          <p:sp>
            <p:nvSpPr>
              <p:cNvPr id="589" name=""/>
              <p:cNvSpPr/>
              <p:nvPr/>
            </p:nvSpPr>
            <p:spPr>
              <a:xfrm>
                <a:off x="5635800" y="4911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75880" y="4910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9159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55604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200800" y="4910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83764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596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635800" y="5759640"/>
              <a:ext cx="3506400" cy="71280"/>
              <a:chOff x="5635800" y="5759640"/>
              <a:chExt cx="3506400" cy="71280"/>
            </a:xfrm>
          </p:grpSpPr>
          <p:sp>
            <p:nvSpPr>
              <p:cNvPr id="603" name=""/>
              <p:cNvSpPr/>
              <p:nvPr/>
            </p:nvSpPr>
            <p:spPr>
              <a:xfrm>
                <a:off x="5635800" y="5761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75880" y="5759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1596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55604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200800" y="5759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837640" y="5759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613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618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625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632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639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5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648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653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660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667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674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0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682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687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694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701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708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4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716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721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728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735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742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48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752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757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764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771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778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4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787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792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799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806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813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9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821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833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840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847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3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5483160" y="4243320"/>
            <a:ext cx="3846600" cy="1415880"/>
            <a:chOff x="5483160" y="4243320"/>
            <a:chExt cx="3846600" cy="1415880"/>
          </a:xfrm>
        </p:grpSpPr>
        <p:sp>
          <p:nvSpPr>
            <p:cNvPr id="855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860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867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874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"/>
          <p:cNvGrpSpPr/>
          <p:nvPr/>
        </p:nvGrpSpPr>
        <p:grpSpPr>
          <a:xfrm>
            <a:off x="5635800" y="5759280"/>
            <a:ext cx="3506400" cy="71280"/>
            <a:chOff x="5635800" y="5759280"/>
            <a:chExt cx="3506400" cy="71280"/>
          </a:xfrm>
        </p:grpSpPr>
        <p:sp>
          <p:nvSpPr>
            <p:cNvPr id="881" name=""/>
            <p:cNvSpPr/>
            <p:nvPr/>
          </p:nvSpPr>
          <p:spPr>
            <a:xfrm>
              <a:off x="5635800" y="57607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75880" y="575928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915960" y="57592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556040" y="57592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00800" y="575928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837640" y="57592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891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896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903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910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917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3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926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931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938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945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952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8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960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965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972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979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986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2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994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999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006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013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1020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6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1030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1035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1042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1049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1056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2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1065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070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077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084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1091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7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1099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1104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1111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1118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1125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1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1133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138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145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152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1159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5" name=""/>
          <p:cNvSpPr/>
          <p:nvPr/>
        </p:nvSpPr>
        <p:spPr>
          <a:xfrm>
            <a:off x="4357800" y="158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415800" y="797040"/>
            <a:ext cx="3846600" cy="1586880"/>
            <a:chOff x="415800" y="797040"/>
            <a:chExt cx="3846600" cy="1586880"/>
          </a:xfrm>
        </p:grpSpPr>
        <p:sp>
          <p:nvSpPr>
            <p:cNvPr id="1169" name=""/>
            <p:cNvSpPr/>
            <p:nvPr/>
          </p:nvSpPr>
          <p:spPr>
            <a:xfrm>
              <a:off x="42228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2228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2228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580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587160" y="1039680"/>
              <a:ext cx="3506400" cy="70560"/>
              <a:chOff x="587160" y="1039680"/>
              <a:chExt cx="3506400" cy="70560"/>
            </a:xfrm>
          </p:grpSpPr>
          <p:sp>
            <p:nvSpPr>
              <p:cNvPr id="1174" name=""/>
              <p:cNvSpPr/>
              <p:nvPr/>
            </p:nvSpPr>
            <p:spPr>
              <a:xfrm>
                <a:off x="58716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22724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86732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5074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15216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7890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587160" y="1463400"/>
              <a:ext cx="3506400" cy="69120"/>
              <a:chOff x="587160" y="1463400"/>
              <a:chExt cx="3506400" cy="69120"/>
            </a:xfrm>
          </p:grpSpPr>
          <p:sp>
            <p:nvSpPr>
              <p:cNvPr id="1181" name=""/>
              <p:cNvSpPr/>
              <p:nvPr/>
            </p:nvSpPr>
            <p:spPr>
              <a:xfrm>
                <a:off x="58716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22724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86732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5074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15216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890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7160" y="1888920"/>
              <a:ext cx="3506400" cy="69120"/>
              <a:chOff x="587160" y="1888920"/>
              <a:chExt cx="3506400" cy="691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716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22724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86732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5074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15216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7890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587160" y="2312640"/>
              <a:ext cx="3506400" cy="71280"/>
              <a:chOff x="587160" y="2312640"/>
              <a:chExt cx="3506400" cy="71280"/>
            </a:xfrm>
          </p:grpSpPr>
          <p:sp>
            <p:nvSpPr>
              <p:cNvPr id="1195" name=""/>
              <p:cNvSpPr/>
              <p:nvPr/>
            </p:nvSpPr>
            <p:spPr>
              <a:xfrm>
                <a:off x="58716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22724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86732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5074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5216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7890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1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415800" y="4243320"/>
            <a:ext cx="3846600" cy="1587240"/>
            <a:chOff x="415800" y="4243320"/>
            <a:chExt cx="3846600" cy="1587240"/>
          </a:xfrm>
        </p:grpSpPr>
        <p:sp>
          <p:nvSpPr>
            <p:cNvPr id="1204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580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209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216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223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587160" y="5759280"/>
              <a:ext cx="3506400" cy="71280"/>
              <a:chOff x="587160" y="5759280"/>
              <a:chExt cx="3506400" cy="71280"/>
            </a:xfrm>
          </p:grpSpPr>
          <p:sp>
            <p:nvSpPr>
              <p:cNvPr id="1230" name=""/>
              <p:cNvSpPr/>
              <p:nvPr/>
            </p:nvSpPr>
            <p:spPr>
              <a:xfrm>
                <a:off x="58716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22724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86732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5074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15216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7890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6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5483160" y="797040"/>
            <a:ext cx="3846600" cy="1586880"/>
            <a:chOff x="5483160" y="797040"/>
            <a:chExt cx="3846600" cy="1586880"/>
          </a:xfrm>
        </p:grpSpPr>
        <p:sp>
          <p:nvSpPr>
            <p:cNvPr id="1238" name=""/>
            <p:cNvSpPr/>
            <p:nvPr/>
          </p:nvSpPr>
          <p:spPr>
            <a:xfrm>
              <a:off x="5489640" y="79704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489640" y="12204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489640" y="16459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483160" y="207000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5635440" y="1039680"/>
              <a:ext cx="3506400" cy="70560"/>
              <a:chOff x="5635440" y="1039680"/>
              <a:chExt cx="3506400" cy="70560"/>
            </a:xfrm>
          </p:grpSpPr>
          <p:sp>
            <p:nvSpPr>
              <p:cNvPr id="1243" name=""/>
              <p:cNvSpPr/>
              <p:nvPr/>
            </p:nvSpPr>
            <p:spPr>
              <a:xfrm>
                <a:off x="5635440" y="104076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275520" y="1039680"/>
                <a:ext cx="30600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91560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5556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200440" y="1039680"/>
                <a:ext cx="30132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837280" y="1039680"/>
                <a:ext cx="304560" cy="6948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5635440" y="1463400"/>
              <a:ext cx="3506400" cy="69120"/>
              <a:chOff x="5635440" y="1463400"/>
              <a:chExt cx="3506400" cy="69120"/>
            </a:xfrm>
          </p:grpSpPr>
          <p:sp>
            <p:nvSpPr>
              <p:cNvPr id="1250" name=""/>
              <p:cNvSpPr/>
              <p:nvPr/>
            </p:nvSpPr>
            <p:spPr>
              <a:xfrm>
                <a:off x="5635440" y="146448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275520" y="146340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91560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5556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200440" y="146340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837280" y="14634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5635440" y="1888920"/>
              <a:ext cx="3506400" cy="69120"/>
              <a:chOff x="5635440" y="1888920"/>
              <a:chExt cx="3506400" cy="69120"/>
            </a:xfrm>
          </p:grpSpPr>
          <p:sp>
            <p:nvSpPr>
              <p:cNvPr id="1257" name=""/>
              <p:cNvSpPr/>
              <p:nvPr/>
            </p:nvSpPr>
            <p:spPr>
              <a:xfrm>
                <a:off x="5635440" y="189000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275520" y="1888920"/>
                <a:ext cx="30600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91560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5556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200440" y="1888920"/>
                <a:ext cx="30132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8837280" y="1888920"/>
                <a:ext cx="304560" cy="680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5635440" y="2312640"/>
              <a:ext cx="3506400" cy="71280"/>
              <a:chOff x="5635440" y="2312640"/>
              <a:chExt cx="3506400" cy="71280"/>
            </a:xfrm>
          </p:grpSpPr>
          <p:sp>
            <p:nvSpPr>
              <p:cNvPr id="1264" name=""/>
              <p:cNvSpPr/>
              <p:nvPr/>
            </p:nvSpPr>
            <p:spPr>
              <a:xfrm>
                <a:off x="5635440" y="23140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275520" y="23126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1560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5556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200440" y="23126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837280" y="23126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0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5483160" y="4243320"/>
            <a:ext cx="3846600" cy="1587240"/>
            <a:chOff x="5483160" y="4243320"/>
            <a:chExt cx="3846600" cy="1587240"/>
          </a:xfrm>
        </p:grpSpPr>
        <p:sp>
          <p:nvSpPr>
            <p:cNvPr id="1272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483160" y="551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277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284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291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635440" y="5759280"/>
              <a:ext cx="3506400" cy="71280"/>
              <a:chOff x="5635440" y="5759280"/>
              <a:chExt cx="3506400" cy="71280"/>
            </a:xfrm>
          </p:grpSpPr>
          <p:sp>
            <p:nvSpPr>
              <p:cNvPr id="1298" name=""/>
              <p:cNvSpPr/>
              <p:nvPr/>
            </p:nvSpPr>
            <p:spPr>
              <a:xfrm>
                <a:off x="5635440" y="57607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275520" y="57592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91560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5556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200440" y="57592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8837280" y="57592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4" name=""/>
          <p:cNvSpPr/>
          <p:nvPr/>
        </p:nvSpPr>
        <p:spPr>
          <a:xfrm>
            <a:off x="4357800" y="30240"/>
            <a:ext cx="936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5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3:24:47Z</dcterms:created>
  <dc:creator/>
  <dc:description/>
  <dc:language>en-US</dc:language>
  <cp:lastModifiedBy/>
  <cp:lastPrinted>2001-05-08T06:29:51Z</cp:lastPrinted>
  <dcterms:modified xsi:type="dcterms:W3CDTF">2008-11-25T07:59:02Z</dcterms:modified>
  <cp:revision>112</cp:revision>
  <dc:subject/>
  <dc:title/>
</cp:coreProperties>
</file>