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EAD-E2E9-42BF-9D98-F254AABA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5AE-3ABB-4F02-B071-17D2F92F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BDE-4113-450C-A841-D4669ADC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2D0-8E31-4AFF-BD57-E3C9C889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E11-6E06-4625-8834-8ED2F568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954-650C-4767-B83A-27771BF7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DAE-3C90-4082-AF20-AAF701FB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889-50D5-4605-A92C-FA4813F1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FB5-2ECA-474E-AA9B-83FBFF8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F69-2025-4851-919A-5A7977C2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5D8-0406-4B30-93AC-0F6BFDC0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234-B00A-45EE-8759-9C8C43C1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064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685800"/>
            <a:ext cx="9759600" cy="1052640"/>
            <a:chOff x="0" y="685800"/>
            <a:chExt cx="9759600" cy="1052640"/>
          </a:xfrm>
        </p:grpSpPr>
        <p:grpSp>
          <p:nvGrpSpPr>
            <p:cNvPr id="38" name=""/>
            <p:cNvGrpSpPr/>
            <p:nvPr/>
          </p:nvGrpSpPr>
          <p:grpSpPr>
            <a:xfrm>
              <a:off x="314640" y="793800"/>
              <a:ext cx="770040" cy="474840"/>
              <a:chOff x="314640" y="793800"/>
              <a:chExt cx="770040" cy="474840"/>
            </a:xfrm>
          </p:grpSpPr>
          <p:sp>
            <p:nvSpPr>
              <p:cNvPr id="39" name=""/>
              <p:cNvSpPr/>
              <p:nvPr/>
            </p:nvSpPr>
            <p:spPr>
              <a:xfrm>
                <a:off x="314640" y="79380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29360" y="79380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448560" y="1216080"/>
              <a:ext cx="798840" cy="474840"/>
              <a:chOff x="448560" y="1216080"/>
              <a:chExt cx="79884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448560" y="121608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7800" y="121608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0" y="114300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7960" y="68580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42360" y="150804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280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524A-0010-4C15-9E5F-12FE8AF36C3B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7520" y="1039680"/>
            <a:ext cx="3506400" cy="71280"/>
            <a:chOff x="587520" y="1039680"/>
            <a:chExt cx="3506400" cy="71280"/>
          </a:xfrm>
        </p:grpSpPr>
        <p:sp>
          <p:nvSpPr>
            <p:cNvPr id="89" name=""/>
            <p:cNvSpPr/>
            <p:nvPr/>
          </p:nvSpPr>
          <p:spPr>
            <a:xfrm>
              <a:off x="587520" y="10411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27600" y="10396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6768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77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52520" y="10396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93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87520" y="1463760"/>
            <a:ext cx="3506400" cy="69480"/>
            <a:chOff x="587520" y="1463760"/>
            <a:chExt cx="3506400" cy="69480"/>
          </a:xfrm>
        </p:grpSpPr>
        <p:sp>
          <p:nvSpPr>
            <p:cNvPr id="96" name=""/>
            <p:cNvSpPr/>
            <p:nvPr/>
          </p:nvSpPr>
          <p:spPr>
            <a:xfrm>
              <a:off x="587520" y="14648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7600" y="14637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768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77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52520" y="14637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893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520" y="1889280"/>
            <a:ext cx="3506400" cy="69480"/>
            <a:chOff x="587520" y="1889280"/>
            <a:chExt cx="3506400" cy="69480"/>
          </a:xfrm>
        </p:grpSpPr>
        <p:sp>
          <p:nvSpPr>
            <p:cNvPr id="103" name=""/>
            <p:cNvSpPr/>
            <p:nvPr/>
          </p:nvSpPr>
          <p:spPr>
            <a:xfrm>
              <a:off x="587520" y="18903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27600" y="188928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6768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77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52520" y="188928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93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87520" y="4486320"/>
            <a:ext cx="3506400" cy="71280"/>
            <a:chOff x="587520" y="4486320"/>
            <a:chExt cx="3506400" cy="71280"/>
          </a:xfrm>
        </p:grpSpPr>
        <p:sp>
          <p:nvSpPr>
            <p:cNvPr id="113" name=""/>
            <p:cNvSpPr/>
            <p:nvPr/>
          </p:nvSpPr>
          <p:spPr>
            <a:xfrm>
              <a:off x="587520" y="448776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27600" y="448632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6768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776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52520" y="448632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8936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87520" y="4910040"/>
            <a:ext cx="3506400" cy="69480"/>
            <a:chOff x="587520" y="4910040"/>
            <a:chExt cx="3506400" cy="69480"/>
          </a:xfrm>
        </p:grpSpPr>
        <p:sp>
          <p:nvSpPr>
            <p:cNvPr id="120" name=""/>
            <p:cNvSpPr/>
            <p:nvPr/>
          </p:nvSpPr>
          <p:spPr>
            <a:xfrm>
              <a:off x="587520" y="491112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27600" y="491004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768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776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52520" y="491004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8936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7520" y="5335560"/>
            <a:ext cx="3506400" cy="69480"/>
            <a:chOff x="587520" y="5335560"/>
            <a:chExt cx="3506400" cy="69480"/>
          </a:xfrm>
        </p:grpSpPr>
        <p:sp>
          <p:nvSpPr>
            <p:cNvPr id="127" name=""/>
            <p:cNvSpPr/>
            <p:nvPr/>
          </p:nvSpPr>
          <p:spPr>
            <a:xfrm>
              <a:off x="587520" y="53366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27600" y="53355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6768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0776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52520" y="53355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8936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635800" y="1039680"/>
            <a:ext cx="3506400" cy="71280"/>
            <a:chOff x="5635800" y="1039680"/>
            <a:chExt cx="3506400" cy="71280"/>
          </a:xfrm>
        </p:grpSpPr>
        <p:sp>
          <p:nvSpPr>
            <p:cNvPr id="135" name=""/>
            <p:cNvSpPr/>
            <p:nvPr/>
          </p:nvSpPr>
          <p:spPr>
            <a:xfrm>
              <a:off x="5635800" y="10411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5880" y="103968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1596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604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00800" y="103968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37640" y="103968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35800" y="1463760"/>
            <a:ext cx="3506400" cy="69480"/>
            <a:chOff x="5635800" y="1463760"/>
            <a:chExt cx="3506400" cy="69480"/>
          </a:xfrm>
        </p:grpSpPr>
        <p:sp>
          <p:nvSpPr>
            <p:cNvPr id="142" name=""/>
            <p:cNvSpPr/>
            <p:nvPr/>
          </p:nvSpPr>
          <p:spPr>
            <a:xfrm>
              <a:off x="5635800" y="14648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75880" y="14637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596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5604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00800" y="14637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37640" y="14637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635800" y="1889280"/>
            <a:ext cx="3506400" cy="69480"/>
            <a:chOff x="5635800" y="1889280"/>
            <a:chExt cx="3506400" cy="69480"/>
          </a:xfrm>
        </p:grpSpPr>
        <p:sp>
          <p:nvSpPr>
            <p:cNvPr id="149" name=""/>
            <p:cNvSpPr/>
            <p:nvPr/>
          </p:nvSpPr>
          <p:spPr>
            <a:xfrm>
              <a:off x="5635800" y="18903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5880" y="188928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596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5604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0800" y="188928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37640" y="188928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35800" y="4486320"/>
            <a:ext cx="3506400" cy="71280"/>
            <a:chOff x="5635800" y="4486320"/>
            <a:chExt cx="3506400" cy="71280"/>
          </a:xfrm>
        </p:grpSpPr>
        <p:sp>
          <p:nvSpPr>
            <p:cNvPr id="157" name=""/>
            <p:cNvSpPr/>
            <p:nvPr/>
          </p:nvSpPr>
          <p:spPr>
            <a:xfrm>
              <a:off x="5635800" y="448776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75880" y="4486320"/>
              <a:ext cx="30600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1596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5604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0800" y="4486320"/>
              <a:ext cx="30132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37640" y="4486320"/>
              <a:ext cx="304560" cy="698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635800" y="4910040"/>
            <a:ext cx="3506400" cy="69480"/>
            <a:chOff x="5635800" y="4910040"/>
            <a:chExt cx="3506400" cy="69480"/>
          </a:xfrm>
        </p:grpSpPr>
        <p:sp>
          <p:nvSpPr>
            <p:cNvPr id="164" name=""/>
            <p:cNvSpPr/>
            <p:nvPr/>
          </p:nvSpPr>
          <p:spPr>
            <a:xfrm>
              <a:off x="5635800" y="491112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75880" y="491004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1596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5604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00800" y="491004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37640" y="49100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635800" y="5335560"/>
            <a:ext cx="3506400" cy="69480"/>
            <a:chOff x="5635800" y="5335560"/>
            <a:chExt cx="3506400" cy="69480"/>
          </a:xfrm>
        </p:grpSpPr>
        <p:sp>
          <p:nvSpPr>
            <p:cNvPr id="171" name=""/>
            <p:cNvSpPr/>
            <p:nvPr/>
          </p:nvSpPr>
          <p:spPr>
            <a:xfrm>
              <a:off x="5635800" y="533664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5880" y="5335560"/>
              <a:ext cx="30600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596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604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00800" y="5335560"/>
              <a:ext cx="30132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37640" y="5335560"/>
              <a:ext cx="304560" cy="684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1024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1028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1035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1042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8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1051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055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062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069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5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1077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1081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1088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1095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1103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107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121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7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8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1131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1135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1142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1149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1158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162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169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176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2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1184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1188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1195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1202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8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1210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3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214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228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4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1238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1242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1249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1256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2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1265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1269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1276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1283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1291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1295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1302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1309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1317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321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328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335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1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180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184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191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207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211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218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233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237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244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259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287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291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298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305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314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318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325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332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340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344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351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358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366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370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377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384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87520" y="1039680"/>
            <a:ext cx="3506400" cy="918720"/>
            <a:chOff x="587520" y="1039680"/>
            <a:chExt cx="3506400" cy="918720"/>
          </a:xfrm>
        </p:grpSpPr>
        <p:grpSp>
          <p:nvGrpSpPr>
            <p:cNvPr id="394" name=""/>
            <p:cNvGrpSpPr/>
            <p:nvPr/>
          </p:nvGrpSpPr>
          <p:grpSpPr>
            <a:xfrm>
              <a:off x="587520" y="1039680"/>
              <a:ext cx="3506400" cy="71280"/>
              <a:chOff x="587520" y="1039680"/>
              <a:chExt cx="3506400" cy="71280"/>
            </a:xfrm>
          </p:grpSpPr>
          <p:sp>
            <p:nvSpPr>
              <p:cNvPr id="395" name=""/>
              <p:cNvSpPr/>
              <p:nvPr/>
            </p:nvSpPr>
            <p:spPr>
              <a:xfrm>
                <a:off x="58752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2760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6768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5077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5252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893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87520" y="1463400"/>
              <a:ext cx="3506400" cy="69480"/>
              <a:chOff x="587520" y="1463400"/>
              <a:chExt cx="3506400" cy="6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58752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2760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6768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077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5252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893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87520" y="1888920"/>
              <a:ext cx="3506400" cy="69480"/>
              <a:chOff x="587520" y="1888920"/>
              <a:chExt cx="3506400" cy="69480"/>
            </a:xfrm>
          </p:grpSpPr>
          <p:sp>
            <p:nvSpPr>
              <p:cNvPr id="409" name=""/>
              <p:cNvSpPr/>
              <p:nvPr/>
            </p:nvSpPr>
            <p:spPr>
              <a:xfrm>
                <a:off x="58752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2760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6768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077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5252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893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87520" y="4486320"/>
            <a:ext cx="3506400" cy="918720"/>
            <a:chOff x="587520" y="4486320"/>
            <a:chExt cx="3506400" cy="918720"/>
          </a:xfrm>
        </p:grpSpPr>
        <p:grpSp>
          <p:nvGrpSpPr>
            <p:cNvPr id="418" name=""/>
            <p:cNvGrpSpPr/>
            <p:nvPr/>
          </p:nvGrpSpPr>
          <p:grpSpPr>
            <a:xfrm>
              <a:off x="587520" y="4486320"/>
              <a:ext cx="3506400" cy="71280"/>
              <a:chOff x="587520" y="4486320"/>
              <a:chExt cx="3506400" cy="71280"/>
            </a:xfrm>
          </p:grpSpPr>
          <p:sp>
            <p:nvSpPr>
              <p:cNvPr id="419" name=""/>
              <p:cNvSpPr/>
              <p:nvPr/>
            </p:nvSpPr>
            <p:spPr>
              <a:xfrm>
                <a:off x="58752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2760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6768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5077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5252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893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7520" y="4910400"/>
              <a:ext cx="3506400" cy="69480"/>
              <a:chOff x="587520" y="4910400"/>
              <a:chExt cx="3506400" cy="69480"/>
            </a:xfrm>
          </p:grpSpPr>
          <p:sp>
            <p:nvSpPr>
              <p:cNvPr id="426" name=""/>
              <p:cNvSpPr/>
              <p:nvPr/>
            </p:nvSpPr>
            <p:spPr>
              <a:xfrm>
                <a:off x="58752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2760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6768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077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5252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893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87520" y="5335560"/>
              <a:ext cx="3506400" cy="69480"/>
              <a:chOff x="587520" y="5335560"/>
              <a:chExt cx="3506400" cy="69480"/>
            </a:xfrm>
          </p:grpSpPr>
          <p:sp>
            <p:nvSpPr>
              <p:cNvPr id="433" name=""/>
              <p:cNvSpPr/>
              <p:nvPr/>
            </p:nvSpPr>
            <p:spPr>
              <a:xfrm>
                <a:off x="58752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2760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6768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5077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5252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893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635800" y="1039680"/>
            <a:ext cx="3506400" cy="918720"/>
            <a:chOff x="5635800" y="1039680"/>
            <a:chExt cx="3506400" cy="918720"/>
          </a:xfrm>
        </p:grpSpPr>
        <p:grpSp>
          <p:nvGrpSpPr>
            <p:cNvPr id="441" name=""/>
            <p:cNvGrpSpPr/>
            <p:nvPr/>
          </p:nvGrpSpPr>
          <p:grpSpPr>
            <a:xfrm>
              <a:off x="5635800" y="1039680"/>
              <a:ext cx="3506400" cy="71280"/>
              <a:chOff x="5635800" y="1039680"/>
              <a:chExt cx="3506400" cy="71280"/>
            </a:xfrm>
          </p:grpSpPr>
          <p:sp>
            <p:nvSpPr>
              <p:cNvPr id="442" name=""/>
              <p:cNvSpPr/>
              <p:nvPr/>
            </p:nvSpPr>
            <p:spPr>
              <a:xfrm>
                <a:off x="5635800" y="10411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75880" y="103968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91596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5560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200800" y="103968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837640" y="10396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635800" y="1463400"/>
              <a:ext cx="3506400" cy="69480"/>
              <a:chOff x="5635800" y="1463400"/>
              <a:chExt cx="3506400" cy="69480"/>
            </a:xfrm>
          </p:grpSpPr>
          <p:sp>
            <p:nvSpPr>
              <p:cNvPr id="449" name=""/>
              <p:cNvSpPr/>
              <p:nvPr/>
            </p:nvSpPr>
            <p:spPr>
              <a:xfrm>
                <a:off x="5635800" y="1464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75880" y="1463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1596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5560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200800" y="1463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837640" y="1463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5635800" y="1888920"/>
              <a:ext cx="3506400" cy="69480"/>
              <a:chOff x="5635800" y="1888920"/>
              <a:chExt cx="3506400" cy="6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5635800" y="18900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75880" y="188892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91596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5560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00800" y="188892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837640" y="18889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635800" y="4486320"/>
            <a:ext cx="3506400" cy="918720"/>
            <a:chOff x="5635800" y="4486320"/>
            <a:chExt cx="3506400" cy="918720"/>
          </a:xfrm>
        </p:grpSpPr>
        <p:grpSp>
          <p:nvGrpSpPr>
            <p:cNvPr id="464" name=""/>
            <p:cNvGrpSpPr/>
            <p:nvPr/>
          </p:nvGrpSpPr>
          <p:grpSpPr>
            <a:xfrm>
              <a:off x="5635800" y="4486320"/>
              <a:ext cx="3506400" cy="71280"/>
              <a:chOff x="5635800" y="4486320"/>
              <a:chExt cx="3506400" cy="71280"/>
            </a:xfrm>
          </p:grpSpPr>
          <p:sp>
            <p:nvSpPr>
              <p:cNvPr id="465" name=""/>
              <p:cNvSpPr/>
              <p:nvPr/>
            </p:nvSpPr>
            <p:spPr>
              <a:xfrm>
                <a:off x="5635800" y="44877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75880" y="448632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91596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5560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00800" y="448632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837640" y="448632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635800" y="4910400"/>
              <a:ext cx="3506400" cy="69480"/>
              <a:chOff x="5635800" y="4910400"/>
              <a:chExt cx="3506400" cy="69480"/>
            </a:xfrm>
          </p:grpSpPr>
          <p:sp>
            <p:nvSpPr>
              <p:cNvPr id="472" name=""/>
              <p:cNvSpPr/>
              <p:nvPr/>
            </p:nvSpPr>
            <p:spPr>
              <a:xfrm>
                <a:off x="5635800" y="49114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75880" y="49104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1596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5560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200800" y="49104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837640" y="49104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635800" y="5335560"/>
              <a:ext cx="3506400" cy="69480"/>
              <a:chOff x="5635800" y="5335560"/>
              <a:chExt cx="3506400" cy="6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5635800" y="53366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75880" y="53355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1596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560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00800" y="53355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837640" y="53355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489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500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507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516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520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527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534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542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546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553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560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568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579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586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596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600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614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623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627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634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641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7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649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653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660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667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675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686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693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703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707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714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721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730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734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741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748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4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756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760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767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774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782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786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793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800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6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810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814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821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828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4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837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841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848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855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1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863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867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874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881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7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889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893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900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907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3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179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22280" y="797040"/>
            <a:ext cx="3840120" cy="1161720"/>
            <a:chOff x="422280" y="797040"/>
            <a:chExt cx="3840120" cy="1161720"/>
          </a:xfrm>
        </p:grpSpPr>
        <p:sp>
          <p:nvSpPr>
            <p:cNvPr id="917" name=""/>
            <p:cNvSpPr/>
            <p:nvPr/>
          </p:nvSpPr>
          <p:spPr>
            <a:xfrm>
              <a:off x="42228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228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228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587160" y="1040040"/>
              <a:ext cx="3506400" cy="71280"/>
              <a:chOff x="587160" y="1040040"/>
              <a:chExt cx="3506400" cy="71280"/>
            </a:xfrm>
          </p:grpSpPr>
          <p:sp>
            <p:nvSpPr>
              <p:cNvPr id="921" name=""/>
              <p:cNvSpPr/>
              <p:nvPr/>
            </p:nvSpPr>
            <p:spPr>
              <a:xfrm>
                <a:off x="58716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22724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86732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5074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15216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7890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587160" y="1463760"/>
              <a:ext cx="3506400" cy="69480"/>
              <a:chOff x="587160" y="1463760"/>
              <a:chExt cx="3506400" cy="69480"/>
            </a:xfrm>
          </p:grpSpPr>
          <p:sp>
            <p:nvSpPr>
              <p:cNvPr id="928" name=""/>
              <p:cNvSpPr/>
              <p:nvPr/>
            </p:nvSpPr>
            <p:spPr>
              <a:xfrm>
                <a:off x="58716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22724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86732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5074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15216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7890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587160" y="1889280"/>
              <a:ext cx="3506400" cy="69480"/>
              <a:chOff x="587160" y="1889280"/>
              <a:chExt cx="3506400" cy="69480"/>
            </a:xfrm>
          </p:grpSpPr>
          <p:sp>
            <p:nvSpPr>
              <p:cNvPr id="935" name=""/>
              <p:cNvSpPr/>
              <p:nvPr/>
            </p:nvSpPr>
            <p:spPr>
              <a:xfrm>
                <a:off x="58716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22724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86732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5074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15216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890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1" name=""/>
          <p:cNvSpPr/>
          <p:nvPr/>
        </p:nvSpPr>
        <p:spPr>
          <a:xfrm rot="5400000">
            <a:off x="8640" y="9000"/>
            <a:ext cx="287640" cy="287640"/>
          </a:xfrm>
          <a:prstGeom prst="rtTriangl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79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422280" y="4243320"/>
            <a:ext cx="3840120" cy="1161360"/>
            <a:chOff x="422280" y="4243320"/>
            <a:chExt cx="3840120" cy="1161360"/>
          </a:xfrm>
        </p:grpSpPr>
        <p:sp>
          <p:nvSpPr>
            <p:cNvPr id="944" name=""/>
            <p:cNvSpPr/>
            <p:nvPr/>
          </p:nvSpPr>
          <p:spPr>
            <a:xfrm>
              <a:off x="42228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228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228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587160" y="4485960"/>
              <a:ext cx="3506400" cy="71280"/>
              <a:chOff x="587160" y="4485960"/>
              <a:chExt cx="3506400" cy="71280"/>
            </a:xfrm>
          </p:grpSpPr>
          <p:sp>
            <p:nvSpPr>
              <p:cNvPr id="948" name=""/>
              <p:cNvSpPr/>
              <p:nvPr/>
            </p:nvSpPr>
            <p:spPr>
              <a:xfrm>
                <a:off x="58716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22724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86732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5074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5216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7890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87160" y="4910040"/>
              <a:ext cx="3506400" cy="69480"/>
              <a:chOff x="587160" y="4910040"/>
              <a:chExt cx="3506400" cy="69480"/>
            </a:xfrm>
          </p:grpSpPr>
          <p:sp>
            <p:nvSpPr>
              <p:cNvPr id="955" name=""/>
              <p:cNvSpPr/>
              <p:nvPr/>
            </p:nvSpPr>
            <p:spPr>
              <a:xfrm>
                <a:off x="58716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22724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86732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5074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15216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7890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587160" y="5335200"/>
              <a:ext cx="3506400" cy="69480"/>
              <a:chOff x="587160" y="5335200"/>
              <a:chExt cx="3506400" cy="69480"/>
            </a:xfrm>
          </p:grpSpPr>
          <p:sp>
            <p:nvSpPr>
              <p:cNvPr id="962" name=""/>
              <p:cNvSpPr/>
              <p:nvPr/>
            </p:nvSpPr>
            <p:spPr>
              <a:xfrm>
                <a:off x="58716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22724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86732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5074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15216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7890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8" name=""/>
          <p:cNvSpPr/>
          <p:nvPr/>
        </p:nvSpPr>
        <p:spPr>
          <a:xfrm>
            <a:off x="5237280" y="142920"/>
            <a:ext cx="4510080" cy="3024000"/>
          </a:xfrm>
          <a:prstGeom prst="roundRect">
            <a:avLst>
              <a:gd name="adj" fmla="val 191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5489640" y="797040"/>
            <a:ext cx="3840120" cy="1161720"/>
            <a:chOff x="5489640" y="797040"/>
            <a:chExt cx="3840120" cy="1161720"/>
          </a:xfrm>
        </p:grpSpPr>
        <p:sp>
          <p:nvSpPr>
            <p:cNvPr id="970" name=""/>
            <p:cNvSpPr/>
            <p:nvPr/>
          </p:nvSpPr>
          <p:spPr>
            <a:xfrm>
              <a:off x="5489640" y="79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640" y="12207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640" y="164628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5635440" y="1040040"/>
              <a:ext cx="3506400" cy="71280"/>
              <a:chOff x="5635440" y="1040040"/>
              <a:chExt cx="3506400" cy="71280"/>
            </a:xfrm>
          </p:grpSpPr>
          <p:sp>
            <p:nvSpPr>
              <p:cNvPr id="974" name=""/>
              <p:cNvSpPr/>
              <p:nvPr/>
            </p:nvSpPr>
            <p:spPr>
              <a:xfrm>
                <a:off x="5635440" y="104148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275520" y="104004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91560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556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200440" y="104004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837280" y="104004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5635440" y="1463760"/>
              <a:ext cx="3506400" cy="69480"/>
              <a:chOff x="5635440" y="1463760"/>
              <a:chExt cx="3506400" cy="69480"/>
            </a:xfrm>
          </p:grpSpPr>
          <p:sp>
            <p:nvSpPr>
              <p:cNvPr id="981" name=""/>
              <p:cNvSpPr/>
              <p:nvPr/>
            </p:nvSpPr>
            <p:spPr>
              <a:xfrm>
                <a:off x="5635440" y="14648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75520" y="146376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91560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556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200440" y="146376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837280" y="14637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5635440" y="1889280"/>
              <a:ext cx="3506400" cy="69480"/>
              <a:chOff x="5635440" y="1889280"/>
              <a:chExt cx="3506400" cy="69480"/>
            </a:xfrm>
          </p:grpSpPr>
          <p:sp>
            <p:nvSpPr>
              <p:cNvPr id="988" name=""/>
              <p:cNvSpPr/>
              <p:nvPr/>
            </p:nvSpPr>
            <p:spPr>
              <a:xfrm>
                <a:off x="5635440" y="189036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275520" y="188928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91560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5556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200440" y="188928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837280" y="1889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4" name=""/>
          <p:cNvSpPr/>
          <p:nvPr/>
        </p:nvSpPr>
        <p:spPr>
          <a:xfrm>
            <a:off x="5237280" y="3589200"/>
            <a:ext cx="4510080" cy="3024360"/>
          </a:xfrm>
          <a:prstGeom prst="roundRect">
            <a:avLst>
              <a:gd name="adj" fmla="val 191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489640" y="4243320"/>
            <a:ext cx="3840120" cy="1161360"/>
            <a:chOff x="5489640" y="4243320"/>
            <a:chExt cx="3840120" cy="1161360"/>
          </a:xfrm>
        </p:grpSpPr>
        <p:sp>
          <p:nvSpPr>
            <p:cNvPr id="996" name=""/>
            <p:cNvSpPr/>
            <p:nvPr/>
          </p:nvSpPr>
          <p:spPr>
            <a:xfrm>
              <a:off x="5489640" y="4243320"/>
              <a:ext cx="3840120" cy="1425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640" y="466704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640" y="5092560"/>
              <a:ext cx="3840120" cy="1429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5635440" y="4485960"/>
              <a:ext cx="3506400" cy="71280"/>
              <a:chOff x="5635440" y="4485960"/>
              <a:chExt cx="3506400" cy="71280"/>
            </a:xfrm>
          </p:grpSpPr>
          <p:sp>
            <p:nvSpPr>
              <p:cNvPr id="1000" name=""/>
              <p:cNvSpPr/>
              <p:nvPr/>
            </p:nvSpPr>
            <p:spPr>
              <a:xfrm>
                <a:off x="5635440" y="448740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275520" y="4485960"/>
                <a:ext cx="30600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91560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556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200440" y="4485960"/>
                <a:ext cx="30132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837280" y="4485960"/>
                <a:ext cx="304560" cy="6984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5635440" y="4910040"/>
              <a:ext cx="3506400" cy="69480"/>
              <a:chOff x="5635440" y="4910040"/>
              <a:chExt cx="3506400" cy="69480"/>
            </a:xfrm>
          </p:grpSpPr>
          <p:sp>
            <p:nvSpPr>
              <p:cNvPr id="1007" name=""/>
              <p:cNvSpPr/>
              <p:nvPr/>
            </p:nvSpPr>
            <p:spPr>
              <a:xfrm>
                <a:off x="5635440" y="491112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275520" y="491004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1560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556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200440" y="491004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837280" y="491004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635440" y="5335200"/>
              <a:ext cx="3506400" cy="69480"/>
              <a:chOff x="5635440" y="5335200"/>
              <a:chExt cx="3506400" cy="69480"/>
            </a:xfrm>
          </p:grpSpPr>
          <p:sp>
            <p:nvSpPr>
              <p:cNvPr id="1014" name=""/>
              <p:cNvSpPr/>
              <p:nvPr/>
            </p:nvSpPr>
            <p:spPr>
              <a:xfrm>
                <a:off x="5635440" y="533628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75520" y="5335200"/>
                <a:ext cx="30600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91560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5556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0440" y="5335200"/>
                <a:ext cx="30132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837280" y="5335200"/>
                <a:ext cx="304560" cy="684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0" name=""/>
          <p:cNvSpPr/>
          <p:nvPr/>
        </p:nvSpPr>
        <p:spPr>
          <a:xfrm>
            <a:off x="4386240" y="30240"/>
            <a:ext cx="936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1000" spc="-1" strike="noStrike">
                <a:solidFill>
                  <a:srgbClr val="000000"/>
                </a:solidFill>
                <a:latin typeface="Times New Roman"/>
              </a:rPr>
              <a:t>Ｘ（１８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453960" y="378000"/>
          <a:ext cx="8985240" cy="6002280"/>
        </p:xfrm>
        <a:graphic>
          <a:graphicData uri="http://schemas.openxmlformats.org/drawingml/2006/table">
            <a:tbl>
              <a:tblPr/>
              <a:tblGrid>
                <a:gridCol w="631800"/>
                <a:gridCol w="638280"/>
                <a:gridCol w="657000"/>
                <a:gridCol w="628920"/>
                <a:gridCol w="647640"/>
                <a:gridCol w="619200"/>
                <a:gridCol w="1238040"/>
                <a:gridCol w="623880"/>
                <a:gridCol w="638280"/>
                <a:gridCol w="662040"/>
                <a:gridCol w="628560"/>
                <a:gridCol w="633240"/>
                <a:gridCol w="738360"/>
              </a:tblGrid>
              <a:tr h="42696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④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5-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6-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⑦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-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⑧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-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9-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⑩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-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3:24:47Z</dcterms:created>
  <dc:creator/>
  <dc:description/>
  <dc:language>en-US</dc:language>
  <cp:lastModifiedBy/>
  <cp:lastPrinted>2001-05-08T06:29:51Z</cp:lastPrinted>
  <dcterms:modified xsi:type="dcterms:W3CDTF">2008-11-25T07:44:27Z</dcterms:modified>
  <cp:revision>114</cp:revision>
  <dc:subject/>
  <dc:title/>
</cp:coreProperties>
</file>